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111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ftr" idx="112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 type="sldNum" idx="113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4E46-81D5-4E1E-8BFF-9CC675439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7DB-DD82-4EEF-BE2A-01186333D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B80A-6576-490D-B85F-6EB6948E1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29F9-0C41-47C9-9901-9AB8DFE9E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C70-0B3C-49DD-A726-423021CF1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1C4A-73AE-4CA8-9CE7-EA9589796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A16-3911-4147-AA50-47754A2392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5092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439D-EE13-4ECC-BC9C-8594FC118E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5092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060A-84DA-4E08-8785-782E28011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BAA-2663-4E7E-92A6-53088190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4A9-8300-4832-AD9B-09E830A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5C991-1112-4E52-874E-5FD7BB7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50146-4069-4899-BC70-F44AD8B0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B1C7A5-C2C1-445E-80A9-10856C08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FD8E1-EAFF-4D58-8B11-738A443C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B26F6E-62B5-42CC-AEB9-C6C59251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507CE-9F8D-4D46-A011-7650C99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82D67-04AC-4C94-A2A4-4678BBB4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B51C49-82E1-4F0F-9E23-13EE912F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5D815-D42E-4C34-B39E-FB9CEF224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EFB12-AB4D-41F7-A0BB-D0978E1E3F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00F-3845-43DC-8A4E-0F58D3B9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AFA6CF-34CF-41C9-B51B-75484FDF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F15E45-B022-432D-A800-2035F4E7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2D013-07C9-4987-8009-83FA64BE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DD88A-E265-4059-82F7-73F27558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D3008D-63CB-4962-B791-3DD470C0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70F87-7DF5-4056-88E2-71B2E0B6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0E3A2A-5691-40EB-BECF-4F02F7E0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7B1E1-B6CE-4B57-9EE5-B88B0E09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B73422-9E64-4FF6-98F0-365AAA52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D45325-BFC2-466C-BD9E-EB9B1CE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380-5A5C-445D-8355-75AEAFF2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FD9EA-C6A9-4859-9E3A-7F0D349859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1C210-4876-4C9D-B702-F785CBFD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8CA05-0F7D-429F-9238-7FFF08B8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04184-F599-4E7B-974F-150A6800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F7452-F9D3-4E3F-8F9A-329141B0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7EDE7-9358-47B3-A7C4-D62A7926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E8A3D-71CB-4BC1-BDBB-6B6E5606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52C4D-848B-45BA-975B-14820B85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DB03B-40E6-4ABF-86ED-D2B56BAA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E12D8C-3502-4963-B816-719EEEB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FBF0-40D9-4EC1-B56F-BE465326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E1775-B496-42AA-B72A-2049585E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60349-6189-4672-8402-5329A443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85413-E734-43BD-BE25-578A4D5C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6B1D4-6CA5-4837-8C40-DEA4647F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0F821-0666-4ED1-9127-7369DE34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9E0DE-6011-4B30-88D0-4E8B741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A1348-9B28-4A9A-A1DC-D6F6C32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BFAD3-41FE-4A81-8654-A52BBF5E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66792D-1C43-4DFC-AC1C-838E25A4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F22882-FC08-4E0D-89E4-63F4EB0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48B5-EA89-4140-A23A-7D95FAA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F3CF81-DB6D-4E9B-8D15-5B9CBFE3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C5901F-4435-4E09-BD06-E5A8EFD8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5951D-9018-48C1-BA06-4060F307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E8180-2F5C-43A8-8554-2C009D32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12BA3-7950-4B0A-B056-3656505E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5DDA95-B1BC-49F6-BEE7-08720571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5BB11F-42BE-4B7C-BFAE-D1ECD205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6371C7-136B-409D-ACB1-0458A70E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784BC-4527-4AE8-B5C1-977518A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347195-924F-467D-85B2-D4DCE9F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EEF-D671-4AFD-BAF9-E05440CB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9BBA65-358F-4B9B-B711-C3A4770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357108-4A74-44A7-8A64-94FF7C79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0ACAF7-09B8-4CBB-91CC-320B27E7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425829-4E39-4D2D-8AF9-7F50238C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503E98-A88A-4376-81AD-C2742DD1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8D2B5D-FB2A-4737-ABA9-DF0C5DD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D2FBBC-574A-46DE-880A-555F0D89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5D467-8AE6-4842-B282-E4FB159B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0E7F6-B5B0-4BFC-9E0B-3A309AC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4FADA-73AC-4951-88CC-421312BC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101-2BCD-41BE-B38A-CAC87775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1B7E1-C199-4442-ADD3-977679D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F17F0-AD75-4FA8-9C9A-FC4AEC72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C92D02-D131-4334-A35F-D45BEE2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99B36-28B5-4370-A51B-CD1E973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813A6-37A0-427D-A4F2-92F1421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C39F8-9C1B-46D1-9BB6-CA72EBC2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F69C3-6083-4940-9B02-599D7673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34F37-2B7D-44CE-A324-75FA65AF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6ADE6-9484-43B5-8954-4A3239F5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CA0FE0-53AA-4BE5-A8D7-BE192C3A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9855-2683-4C6F-B52D-28D78BDB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FFD993-61AC-4C08-ABF3-E544550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440698-E7D5-49FD-B2AC-089613C6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DB9698-3C98-42FF-9E1A-4AB23BF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DA09B2-5FEE-476E-8DAC-59F79242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BF7ED2-6CFA-4A18-B290-28FC8046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362BC7-A36A-4C51-830B-261F257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E3B965-611D-474C-AE54-83915714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35580E-4425-48DE-AF39-92C6C2A5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D17056-4F13-48EB-9200-B64F5707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DAB768-1F2B-46E1-BAFA-C02505A5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12F-7AAB-4D45-9AC0-90425AA4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0D0F2C-A62C-4EF0-8F70-034C3B04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BC38AD-6E8C-49C3-AB23-24B61987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BA1ED52-4D1E-425D-8FA6-1F8A248A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BB5AE2-38D3-4407-A3EF-ABCFBA1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1FF7013-4B56-4CAB-9DB9-D0F4F962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1BCC86-2C9A-47A9-804F-D7A6768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F1D785-EBCA-4665-8CEB-F65973FF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99DFB5-CE86-4C92-936D-4262946C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5A92953-C101-424E-A483-DEF967A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BB603D-ED7D-420E-8BC5-308700FA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0C2-F2E4-4819-BD89-7D6BB7D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CB7817B-5B44-4F89-B060-FFD8153A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F7531D-CFD6-4ABF-BD0C-B9529732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F974B1-DA22-4C13-AB52-74EA88FB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F7FA4B4-6AE1-40FC-9469-241A21E1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B620192-0935-4A0A-8DFE-D27B1857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F40502-57D4-4069-A788-391E6522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4717A3-B2EE-4D75-8BD3-F47752DB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FB22B8-6575-4AE3-878C-90CBFCCA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78FA4FD-999A-4CA6-BE11-50DE5AE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AA295A-03A1-43B8-AB00-2A457779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1B3E-438F-4D0F-A70A-22922E14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766A-B180-4CD8-9A1A-1ABC455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776BAC-ED4E-4FCB-9228-41966F0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BFD9CB-902D-4736-8015-A83470EA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E63E28-100D-4D3F-90CC-5BDB0F40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60A460B-A9E8-454D-83BC-68026023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F12E91-96EB-4018-8F1F-29C83DC9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333A7A-2DDC-4468-98AA-AD848E54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035AF7-99C0-49DC-B694-2ED6E31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E3A5BE-FF08-45CE-A388-3EB86921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270D9C-AEC9-49CA-818B-492F4EEA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508B2D-6B7F-4759-ADDA-81D0E4D0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C3FC-89FC-4263-ABA6-8BBB759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8F460A-AFE4-4C24-A687-98EF82F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1929AC-EA33-491A-AEEA-FFA1BEA7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A26AC5-C50D-4414-B535-1AFFE80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3FEB45-B0EA-4801-BB46-132B0703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D9FB2D4-A0E6-4E22-A094-9DAEE081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D72EFF-D2A6-401F-A867-0F6FA66A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FA2DC4-E093-4D6A-BEFF-92A87CDA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BA26641-8B13-4611-8CB6-C8645AE2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2F882D-78FB-4ECD-8CDA-CB28682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88C927-61F7-4BA8-A131-AEA4E60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D67-59B6-442D-BACE-D11666C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F12867-C929-44D6-9655-7E408DA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349D3B-5718-4C1F-BB09-B2B124A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C563F66-B92E-41AD-B039-FA8E55A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F36097-CA88-481B-ABAB-0FD5CE12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8EE613-A992-40B9-B43A-A6F4D98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0F0E8F-6E9C-45B8-AEF8-03AF61CC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CC74FCC-EBEE-4400-B08A-67E8A02E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1F3C41-087C-4413-85EC-160BB9BE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13957A-3899-4DC0-BBB6-25F324CE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C29940-E3CD-4524-9E74-D82B7F0F0F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F8B-501E-4CB2-9538-D0DAF79C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8F4D9A-70CA-4C62-9048-D236DAF2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E1D261-169F-4C6C-BCF0-2268C6A3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CF085-911B-4726-B4B0-F7688E9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25F35-4468-4846-BEF9-8BCBAE30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15D19-754C-4003-92AA-D529CF6C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E6EC8-3DFF-4063-850E-B6B99593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F3315-740C-4D42-B2E4-258B0EC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D56ED-832A-415D-ADD4-0D3D2B74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8119B-1E70-42ED-A517-AD27AF5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54ED1-5393-42C5-9F38-2828D97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3366-92AA-4E5B-9442-85CEF431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0FD61-3A4B-49EA-85E6-BBB3E5A04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69D800-1007-4BA2-B562-1D5E66632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C30A2C-FE9E-464C-8735-6440B442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C74476-5A00-40E1-B07F-68AB64D3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9017B0-8254-4C24-8902-D8E3B269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8FFF5E-2ADE-42D3-A6E0-0FE3CDFE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3F4A82-D781-489A-A232-A629BBB7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1735C6-70F7-42D4-8581-AB0FD55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D7DECC-978C-4045-B90C-48A9D38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D67AB4-9019-4905-87F4-FB0FD189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AD67-F3B6-4A96-ACF7-769A0CB5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54C997-C51F-4E88-A3E0-E845221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F09A2A-0E89-471F-BA57-1C19D36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0AC5FD-DACE-4F0D-94F3-A6D213DCA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FE56565-719E-44F7-A719-25F21786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836720-8255-45D3-B0DC-6562A3CD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DE2729-D3F9-47DA-8A49-5344E2B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5013A3-9389-4A92-895D-A77EE42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BDD158-5D87-4004-AE49-A21F3F16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8E8B85-9992-477E-A689-1A08392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80AEEE-EE7F-4108-B910-7383EFF2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6A83-9C85-4835-889D-4F8AB3ED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CB83BE-D3FE-4DC3-97CC-7727500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C4BF49E-93EA-45F0-80AD-61A825C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DD6B8A-35DF-402B-89AE-7A1F68E8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363D29C-EC22-49DB-99E0-7729967C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B0D2ED-52BE-4F6E-BE6D-DF2C37B5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630BEE-6F8C-4ECE-8462-766A5500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6B93A0-0ED2-4E91-8490-294DAF2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70AEC9-155F-4050-BAB9-E250EEE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4039CC-6FF7-4834-8E96-5C90F457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2B9EE2-2F1F-4CA7-A4E0-147D0C4F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7F6E-1E98-4D42-9693-27020D6E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2BAC79-0365-431D-8766-972444D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4507F6-4F8D-4910-A4C4-2EA0851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AF0518F-C661-446E-84D5-8191C5E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607218E-A206-42BD-B508-2C82A2E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64D85FF-A709-4790-A329-B9D111F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20541A-DC88-45AE-9EA5-E31B3AF0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8CFCDFB-949B-475C-ACD6-90D2944E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623F05-DDB2-4A33-8399-9F8EE0DF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7646B1-307E-45B0-967E-0AE1351D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E48BB9-F9BD-452E-8564-3305E379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76B7-3EEC-4722-9B9E-B5EB652A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C47B81-46D1-4F92-9DF5-8140172F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B3B7E16-04F9-4B81-AAD0-EDB219B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D51FCC-BBCD-4A3D-89B7-24AC7F6F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ACBAFD-C367-41CA-A99D-FBE3FC0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114BED-60DC-4844-B3DA-CF5B23E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890CFEE-A776-45D4-AE9F-1A09380A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BE9AF2-32EB-45A4-A007-7DE5F038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1A2A59-5602-4DBD-939F-91706259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A1C99A-20CC-4623-9460-44579BD6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F9BCA8C-920A-4ED2-BF21-3F9CDF69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2C6A-9FCC-4F40-A1D3-3FA7BC1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68A866-FF7E-4C34-9930-E987009A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B567B3F-546B-4A6B-A88A-BB23EAF8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A470FF-D9E6-4412-AE55-0FF71CD4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7739455-8251-4005-8871-5292D76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F0F741-1F1C-409F-B2BE-04770C9F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54989CB-FAE0-4216-9074-FAF794E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F70A880-DD71-4CB1-BE88-380FA6D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1C4763-4A43-4B91-A815-5AC04F7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67D0455-73D2-4FF8-A9FD-4DE17E46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508F83B-44D9-475E-8E43-3AC1580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517C-2090-40E0-98F6-D832F041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2D2A5-4E3B-4676-A4F5-5C28CBF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4BE2FDD-A7BC-45DE-9059-A629F212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C06A92-A55A-4FEC-BFAE-5D3727EF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7CC6400-954A-4529-B6BE-6D45B4FD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E2591B-FC58-4F81-BA68-65A12EA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9F1F68-9618-47E0-BBE3-44C80CDA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CB37FA7-E1D0-4DE9-BAC1-E9036FA8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D872FB-8620-4449-9F4E-885992DA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A307C5-3CF1-4D2B-AF85-172E4851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ABF72BC-E34D-4268-8384-C4F5278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5C8460-9189-42A7-AAC5-58F8424E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C6A9-9D5C-41B4-9B1B-69A68B13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387DB56-52B0-4521-A4DA-D0493AA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10B054-E745-4D6C-B256-92E80E05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C7DABB6-0981-4A86-B2A0-73E8C70E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540F46-8865-4B0D-A980-3812FC32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51B1BE0-BD89-4E88-9550-7678A07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734128-B893-42D6-8FC2-EA121986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81E335F-96D6-4166-95FD-A9D8097A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4B66B42-4244-4B6A-9498-8BD163BB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E7A147-4A79-48C2-8943-DB7869D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DF0D570-F2B8-49B0-98AF-267219F1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7CEC4-97C5-4127-B607-1A55EE7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3FC05D5-D9FC-456A-BF22-CC83D38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582D1D8-ABC9-4567-94A1-BAA1C2FE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A51A267-6173-463D-B957-DF255B98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D2A1D2A-6BE8-43D8-9F81-F0B693E6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1DE9C4-C89B-42A7-A8B3-6F388C84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7DEF0AA-CCA9-47D5-87E0-B798072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46D66D-D025-48EE-BCAB-6550EFE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7BE4D1-25F0-42D9-AC4B-66CC471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EF8DE3-78F1-41B7-AF34-7AEC465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1EEF26-7970-4229-B1CE-20978E26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6D982-920A-4ADE-B9C3-1563C0DF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932EADA-EEF0-4B32-84FF-D21D420C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8C6A7D-A7A1-4569-BA17-E935B0F0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51258D-B064-445C-AB4E-84CE74B3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576C66A-A89E-4D8E-86D5-833D08C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C4DBAF-F313-42B8-9BDE-59F09B2A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EB20917-D433-454B-B3FC-BC81D45B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11DA49C-2A4B-4424-89D0-A569F0BB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79F7028-2CC1-4C54-AFF6-4058756E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82EE02-B3C3-419D-A572-8A274BC2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896DF10-CDED-4B50-BBDF-0611BB4B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13A3-C388-4F58-A39A-AC27982A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4667B0-AB34-4FA0-AC09-301AF098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02FD68-B1DA-4424-B0A1-6F3BDED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A447DA-62FA-4DE7-861D-7FA5D8DB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B5AA956-D2DA-4D40-8E4B-D8D77265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018C066-114E-453F-9FBB-E5555B9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4828BC2-8718-4FBB-8B19-6D6A2D3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521E144-528A-42D7-86DD-85C64C8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4F4734-9DE5-44CA-B23B-311FA6F9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FB84A6-88F0-4E25-B4E6-1AB4CFE3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D975C0-0261-425B-B014-D3B68C8D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EEC0-BFEE-4EE8-AE08-6D6A6D6F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EFE491-CF72-4CBE-A536-FDE411D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CCB922-0EF2-41ED-9EE1-D746A4E7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B76A3A7-3ABC-4863-8C54-3687FBA8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14E757-A0A6-481D-BF5A-0B1396D6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DF0A9F9-C5BC-45D6-B0D4-E9C57235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E07FDFD-866A-436C-82A9-3DDDC69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C82601-B45D-4EBE-93B4-A7932B9F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922672B-BC8A-40DF-9F02-4A560932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A9AEDC-380C-47A8-8CAB-86CA776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E76FB3-3903-43A5-89E4-24703975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EFD3-B5C9-4805-8797-75F590C3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845396-2FE2-4444-A83E-C8F8EED3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35578EB-004B-4517-8A1C-DB033DFA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CF8A439-74C1-452B-88E5-3115FA9F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999C113-57B1-44E8-A96C-699DB924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A50B0F1-2983-4B06-9BC8-6A6B5BB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0EC2E68-6B68-4F0B-9AD2-B90DBDF8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A61700A-ABD4-49AF-B18E-A9AA1588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08FFB51-5CFC-48B1-9637-3DE5551E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69D35C-C4CF-4A3A-9207-38352379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0889D2C-2590-4C24-9B45-596175BA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89DE-76E5-4D4B-9094-3F88384C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E3DCE0-4927-494B-BDE7-4652BC94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E445339-3ED5-44B7-A219-BB54DCF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752A720-346A-400C-B16B-01295774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DCBAA49-0D9F-4B7A-9098-1BD69939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E329B85-61F2-4ADB-AD7F-B0BDF450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09354F-D7EB-43AA-84B4-9F93E5E2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7EC510-1E90-452D-973E-BF394E9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380B141-4F00-4F4F-84C6-2DE2596C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DFA3667-F2E9-4EB8-83FF-9996C07E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491DC53-8C7C-4F50-B277-3175FC58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5C3D-B366-4F17-9CC0-ADB299F4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36C5A4F-3CD8-44C5-B0DF-89B2CF0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50DEE70-1FCC-4036-8883-2737EE7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FA49884-6291-4983-A5F5-CF5F125E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02A439-25AE-43A2-94E2-1B0CF0FB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C6C449A-5104-44F6-A144-79A7DBC8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54F7FC-153D-4A8B-BCAE-48C4C3F9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66858C9-A80A-4F80-89FD-E20D556E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A14C6CE-3E6C-431E-B4B2-4DCD3CF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119E28D-02B8-442B-AEF9-4D501D64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9C35A38-9EC5-433E-AF1E-286D3F82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B2552-7C4A-44C6-8FA6-851EA269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CE5F43-ED3A-4FD7-ADC3-DA09F6C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521B683-69C8-4C41-AFAE-8B18399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BBA767-52BA-4206-810B-CB0F3F8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9ABF684-3E8E-4A28-AA87-976C3F2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993932B-67DD-471B-BB1E-D0323ADB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6D51A86-3799-49B8-B5F9-648D5FA6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17CF98A-C0D2-4B74-AB2B-EB718672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0888F99-234A-425F-9011-1EEAF726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6E792F-CC5D-4FAE-9630-87A043FC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5BA742-5D65-4138-AE8F-72212160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47C-C7F4-4653-8481-56EAA340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60362-7C4B-4132-B604-9288CB7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F0798D0-62B1-42B8-A2CA-B34DD57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2E24701-5C04-46D6-B41B-D5F7D037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C97F956-A0A6-46A1-94E1-E061A459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9775BE3-D9B7-41BE-8983-1E457097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4DAC4BF-2635-4BA5-92DA-C3DE915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0320E7A-0F70-4BEE-B4B9-EF335B2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F3F5A1C-B0E3-4E1D-814D-583530ED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8D60B46-CD13-4F60-8EF3-42D818A2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04DC3B2-A2DE-4E10-A20C-0A1D0641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E6F67FF-A258-4F54-875A-97E337A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08A2B-9F7E-40CC-8EF9-12F34414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6BEF20F-5A35-4DE2-ADEF-84C85E3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A7C8871-1B6A-4729-886A-253278B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84EE5C-9958-4BD6-8355-F31FB22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EC07D84-8724-4D1F-B8DC-F3C95958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73AC451-49D9-4F92-84C5-C3F393A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24CC3C-07BC-4123-A4B7-3144AC32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CB013C3-53B8-4145-83C7-25EEC3B4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1522D36-4375-4BEE-99E6-EC6BF5D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00AB5D0-EC41-4D87-8FEE-1F968AE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051E254-7B5C-4DE8-9ADA-036DF966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4335-234B-4CFD-A2E5-03322F1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1B3BAD5-3C6A-4209-9A54-C449D8E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B80596-14F5-422F-A1A6-15D071B3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96E8232-783B-4498-B79D-89B6B1E8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370C341-E3E4-4052-8918-EDE7677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CECD470-0749-40AC-966B-291EBEA8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DB58A8D-C5D4-4752-AFCB-2085B333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FAFD3BD-BA8B-41DE-AD84-9E06A9F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9F493FB-9F94-4726-BBC7-150A8DC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CB53EC1-8F10-42DD-911A-5E5B55C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19182CF-5B06-4D94-83D4-51CBC4FD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F177-60AB-4D03-BEA3-1F87B2C9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2462FFE-339E-421B-9F27-C53D4A28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EAB43C-1104-45C0-8514-95A8C2CF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50EA1D-344C-4DBA-9D97-D29BE00F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9469523-DE82-4D21-861D-5494C48B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E8B0281-F9D2-4132-B15A-21722441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979B6E1-C1C7-47E5-9475-6CA53AA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85EA4CC-AD08-4218-BAC9-3E9C629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84B92E9-C09F-4227-9C07-971087C6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A867777-EB98-416F-8014-94C53D7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FC52821-2769-4227-96A9-916681D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FF69-E020-47EF-B6EC-4436E38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00C0B5A-D34D-4309-A6BD-4F0C4E5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55EE1E5-0750-47DB-A9C4-73BA763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98047B7-C223-4DB7-82AD-28B151AE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E93237A-9173-4FAE-8CA3-A07A9155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D9A297-A9B6-460D-9D52-17E977E9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1CD0F50-72CC-491A-BA66-8F05EE2F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318B598-EA00-4AE6-A750-EFF6326B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57D20B6-7DAC-4AC4-B4D9-6F7EFC8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AD27C24-DEF9-4F1C-85AF-4FC03F34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6D0167-63CA-43B4-8D55-3094AD34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409F-F14F-48C2-A450-565C7F8B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08AC1B0-09AA-4249-BE32-9BF1C7B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38871E2-C6F0-4B25-90CD-C9CAC89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F13045-07B3-4149-A8F6-7F025A5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3D2AA0-40F9-44F9-A26F-AC9BECA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120D64-311C-47CB-8EC5-633745CB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AC5612-2EFF-4AE0-B529-C7A0A65E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123A0B1-0870-46DB-B10C-A5E5C38F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B5C54CB-F95F-48CC-B68D-A16B3626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BC70408-2C8A-4659-B4EC-7F61E162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873A8B6-B12D-4A36-B1B4-E5608EC7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5AEF-5B93-4CB6-A05A-529741D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D98039A-6708-4E82-A0C2-FBA608EA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2118954-0CE7-41BD-A1D3-4C670527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82CCC81-D06D-46AF-9C76-0BDB20F5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4C4CAC9-56AD-4F42-AC23-1DFA8701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5C3BD9C-2EBA-439C-AFA5-2314505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94BD8434-F0A4-46CC-BED3-9FFD3FF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8D67D9A-3E92-46B2-88A3-95C9AC4F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F8AB775-7513-4343-9978-2A749748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6DBE1B4-A7FC-4D35-8309-F5E66AA5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9ED7910-6E05-40A0-97D2-49E732A2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427F-A47E-4C95-A554-8C83EAE3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A5D8F70-FEBA-483B-8902-C12CF91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E4544BD-FE7D-4E9F-99ED-91DC323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05D4305-6EEA-4C9F-9272-248A617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8A2DEE-1DDD-4D62-B0B7-C552FC27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54DB5C5-4F39-4CBE-A5A6-D320C0E4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DE3A821-16E8-4D6E-82F3-41AF163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287E872-CCF5-42EB-84B3-FDD9979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498417D-B57F-4227-8D71-C65168B3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8EDB418-2AB2-4F4D-9DFA-82C257B0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B55D18C-2F63-424C-8BD9-709504CA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524E-26A4-428C-991A-0E1A734B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31EAAB-3ABC-442D-A1D1-9E5E8E7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A01-240F-4F82-A233-CE89FA5E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1B5-99A8-4F88-8E5A-795B755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6FC-FBC4-4CBF-B11F-BAD2C4F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2AF94-4719-4CDC-B9ED-F0F36601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34F7-643C-421B-97D6-60613994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280AB-F10E-440F-A732-E050693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A381B-7616-45C9-B5FE-B81D2FD0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83722-D121-4D22-8F88-5CD1EDA6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2883-F5E7-4279-A965-435CBFF3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62CD-F93F-4A49-BAEF-184E315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150-4EDB-48B2-8A65-A512D1A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F9DB2-DE01-4CDF-9637-57DAD3E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D0B9-7ECC-494C-97A4-9CCAEA17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60DC1-D2A9-4125-8A2B-9FB139E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6AEEF-EA4C-444B-A13E-C24318B1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A2C6-B12B-495C-A0E2-6E3C1220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9FB88-8C71-45A7-AED4-B3708F00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2B2BB-B4FF-4929-8A4A-434A5E76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BE20-02BB-4E4C-9A4B-E292C30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2168E-B1C4-4E34-99EE-1887528F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E6807-584C-4A6F-B617-D7D1B4CB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8A7-7D01-44FC-9810-6FE19E68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E6381-16E8-4BB8-9122-0EC14C0D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81712-C517-49E8-B88A-3717B82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E99E-AB0C-4C23-9EB7-3248FBB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836F8-076A-4B53-AB66-2EBF7D72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F3DC-4D81-43B6-9F83-8716FA3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9F9B-12B1-4F9C-96FC-55377FAE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3D99-03EF-49E8-9409-67939C55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CBC05-B2B9-438C-8DAF-BFB17934DF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8EE67-56B9-4C18-A165-A1CCFB1F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FEEDF-7CD3-403D-BB6C-9E1D694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880" y="26665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33920" y="4419720"/>
            <a:ext cx="5410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14000"/>
          </a:bodyPr>
          <a:p>
            <a:pPr marL="47880" indent="-47880">
              <a:spcBef>
                <a:spcPts val="499"/>
              </a:spcBef>
              <a:buClr>
                <a:srgbClr val="000000"/>
              </a:buClr>
              <a:buFont typeface="Federation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1" marL="103680" indent="-3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2" marL="159840" indent="-3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3" marL="223920" indent="-31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4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5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  <a:p>
            <a:pPr lvl="6" marL="288000" indent="-31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ederation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ederation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Federation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23C-746A-4C3F-A564-DEDA35F99761}" type="slidenum">
              <a:rPr b="0" lang="en-US" sz="1400" spc="-1" strike="noStrike">
                <a:solidFill>
                  <a:srgbClr val="000000"/>
                </a:solidFill>
                <a:latin typeface="Federation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358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A450-395E-4E69-9E1E-0C9B62D39459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57E2-3E66-422F-8B55-3CE928ADE00B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B6F2-ACBF-4F19-9C19-E2AEBB689A3F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47A-1DF4-415A-ACD8-C22DF0AF9969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312-8032-446E-B413-4D93363032A6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4BC9-E486-4107-9DBA-3AB3C781A17C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dt" idx="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ftr" idx="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Num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BA88-8BB9-45B3-ADC7-CF065E4E9145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9CF3-569E-45BC-80D8-D943B3160945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1AC-0F67-4D1E-AA33-740BD14E8134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F2B3-23C5-4317-BA0D-BCAAE00437A4}" type="slidenum">
              <a:rPr b="0" lang="en-MY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069E-394A-4184-98D1-11197FD0BF08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ktangel 2"/>
          <p:cNvSpPr/>
          <p:nvPr/>
        </p:nvSpPr>
        <p:spPr>
          <a:xfrm>
            <a:off x="0" y="795240"/>
            <a:ext cx="9144000" cy="1230480"/>
          </a:xfrm>
          <a:prstGeom prst="rect">
            <a:avLst/>
          </a:prstGeom>
          <a:gradFill rotWithShape="0">
            <a:gsLst>
              <a:gs pos="0">
                <a:srgbClr val="7dc8d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Billede 3" descr="dreamstime_Handsoverlapping.jpg"/>
          <p:cNvPicPr/>
          <p:nvPr/>
        </p:nvPicPr>
        <p:blipFill>
          <a:blip r:embed="rId2"/>
          <a:stretch/>
        </p:blipFill>
        <p:spPr>
          <a:xfrm>
            <a:off x="7253280" y="785880"/>
            <a:ext cx="1890720" cy="12272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uppe 12"/>
          <p:cNvGrpSpPr/>
          <p:nvPr/>
        </p:nvGrpSpPr>
        <p:grpSpPr>
          <a:xfrm>
            <a:off x="0" y="0"/>
            <a:ext cx="9144000" cy="1969920"/>
            <a:chOff x="0" y="0"/>
            <a:chExt cx="9144000" cy="1969920"/>
          </a:xfrm>
        </p:grpSpPr>
        <p:sp>
          <p:nvSpPr>
            <p:cNvPr id="790" name="Rektangel 2"/>
            <p:cNvSpPr/>
            <p:nvPr/>
          </p:nvSpPr>
          <p:spPr>
            <a:xfrm>
              <a:off x="0" y="0"/>
              <a:ext cx="9144000" cy="1969920"/>
            </a:xfrm>
            <a:prstGeom prst="rect">
              <a:avLst/>
            </a:prstGeom>
            <a:gradFill rotWithShape="0">
              <a:gsLst>
                <a:gs pos="0">
                  <a:srgbClr val="7dc8d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ktangel 3"/>
            <p:cNvSpPr/>
            <p:nvPr/>
          </p:nvSpPr>
          <p:spPr>
            <a:xfrm>
              <a:off x="0" y="1703520"/>
              <a:ext cx="9144000" cy="26640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1f88c8"/>
                </a:gs>
              </a:gsLst>
              <a:lin ang="16200000"/>
            </a:gradFill>
            <a:ln w="9360">
              <a:solidFill>
                <a:srgbClr val="22708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Your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93EE-2FE3-41B8-80AE-0FBD48A3CBA4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8422-C688-4D97-8B91-88ECB224361D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dt" idx="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ftr" idx="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sldNum" idx="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3EB-BE2C-4696-8E1C-E30915DE53A1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sldNum" idx="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3EC6-816A-4DF3-8D6B-146D10B486B0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291-E20D-46B1-A26C-2263018328AC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B5B2-B372-4986-9281-293763D7EA20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0F4D-B271-465C-9DDE-A24C5E5004A2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A12B-1B60-4AA0-B086-560FCC8D28ED}" type="slidenum"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09680" y="533520"/>
            <a:ext cx="6477120" cy="88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2A7-AD5E-4155-B6B3-692F26A488EA}" type="slidenum">
              <a:rPr b="0" lang="en-MY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1" descr="WhitebackPPTCover4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13CA-0481-459A-824B-F19059AF2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F8E-E925-462F-A861-506B1140069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DAC-7719-44AB-B1A2-C5B248151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7E08-ACF8-4B7D-8379-D5D346AD5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415-E89E-421A-86FE-ED6D026BC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7E7C-9D98-4379-A45E-4C594AC43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D295-86A0-4822-8E5C-25DB4E3C8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340-0EAB-4991-982F-ACD759BB9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C633-B043-4DE6-ABDF-9CCCACBE3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1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1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1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224-6BF2-461C-96DF-6BA983BF9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57240" y="990360"/>
            <a:ext cx="5257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FederationBold"/>
              </a:rPr>
              <a:t>Click to edit the title text format</a:t>
            </a:r>
            <a:endParaRPr b="0" lang="en-US" sz="3700" spc="-1" strike="noStrike">
              <a:solidFill>
                <a:srgbClr val="ffcc00"/>
              </a:solidFill>
              <a:latin typeface="Federation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352-529B-422F-9DA1-2A14B84F65FE}" type="slidenum">
              <a:rPr b="0" lang="en-M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1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188-CB89-434C-8962-C05073BB2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2512-616F-40DD-B2F5-2B23FDCBF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WhitebackPPTCover4_3"/>
          <p:cNvPicPr/>
          <p:nvPr/>
        </p:nvPicPr>
        <p:blipFill>
          <a:blip r:embed="rId2"/>
          <a:stretch/>
        </p:blipFill>
        <p:spPr>
          <a:xfrm>
            <a:off x="3240" y="7920"/>
            <a:ext cx="9137520" cy="684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601992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ederationBold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Federation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2666880" y="1676520"/>
            <a:ext cx="60199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E2B7-C048-4F7C-906D-FF50DC94B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cf9"/>
            </a:gs>
            <a:gs pos="100000">
              <a:srgbClr val="fffcf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Gruppe 16" descr=""/>
          <p:cNvPicPr/>
          <p:nvPr/>
        </p:nvPicPr>
        <p:blipFill>
          <a:blip r:embed="rId2"/>
          <a:stretch/>
        </p:blipFill>
        <p:spPr>
          <a:xfrm>
            <a:off x="-60480" y="762120"/>
            <a:ext cx="9264960" cy="13586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E15C-F411-4F3F-BC7E-5FD1A48F9B32}" type="slidenum">
              <a:rPr b="0" lang="en-MY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6940-3DD7-4059-A6F4-5956C3A6E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tford Count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ember 30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4" name="Rectangle 8" descr=""/>
          <p:cNvPicPr/>
          <p:nvPr/>
        </p:nvPicPr>
        <p:blipFill>
          <a:blip r:embed="rId1"/>
          <a:stretch/>
        </p:blipFill>
        <p:spPr>
          <a:xfrm>
            <a:off x="115920" y="1901880"/>
            <a:ext cx="93027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Picture 3" descr=""/>
          <p:cNvPicPr/>
          <p:nvPr/>
        </p:nvPicPr>
        <p:blipFill>
          <a:blip r:embed="rId1"/>
          <a:stretch/>
        </p:blipFill>
        <p:spPr>
          <a:xfrm rot="20986200">
            <a:off x="6490800" y="210600"/>
            <a:ext cx="2529000" cy="161928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eea"/>
                </a:solidFill>
                <a:latin typeface="Calibri"/>
              </a:rPr>
              <a:t>Ticket out the Doo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Please complete t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Narrow"/>
              </a:rPr>
              <a:t>Ticket out the Door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Narrow"/>
              </a:rPr>
              <a:t>before you leav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ttp://region1rttt.wikispaces.com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TextBox 8"/>
          <p:cNvSpPr/>
          <p:nvPr/>
        </p:nvSpPr>
        <p:spPr>
          <a:xfrm>
            <a:off x="723888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ttp://www.psdgraphics.com/backgrounds/sticky-notes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TextBox 5"/>
          <p:cNvSpPr/>
          <p:nvPr/>
        </p:nvSpPr>
        <p:spPr>
          <a:xfrm rot="20588400">
            <a:off x="7054200" y="809640"/>
            <a:ext cx="145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do I Need Now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EC22-7280-48A0-848C-B0D4F3E63E25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7eea"/>
                </a:solidFill>
                <a:latin typeface="Calibri"/>
              </a:rPr>
              <a:t>Region 1</a:t>
            </a:r>
            <a:br>
              <a:rPr sz="3600"/>
            </a:br>
            <a:r>
              <a:rPr b="1" lang="en-US" sz="3600" spc="-1" strike="noStrike">
                <a:solidFill>
                  <a:srgbClr val="007eea"/>
                </a:solidFill>
                <a:latin typeface="Calibri"/>
              </a:rPr>
              <a:t>Professional Development Consulta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nne Meig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nne.meiggs@dpi.nc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2-340-01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r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m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urritu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denton-Chow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izabeth City-Pasquot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qui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4571640" y="167616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h Edw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zabeth.edwards@dpi.nc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52-916-684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eauf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rtfo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y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i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yrr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ashing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E63B-022C-4CDC-9853-9C5B5ACAF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Before we begin, please go t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304920" y="1066680"/>
            <a:ext cx="853416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region1rttt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i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ikispa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your favorit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te “Region 1 Events” on the left me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ve presentation and handouts on your desk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 the ticket out the door at the end of th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Calibri"/>
              </a:rPr>
              <a:t>Go to the link below and minimize it for later u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eea"/>
                </a:solidFill>
                <a:latin typeface="Calibri"/>
              </a:rPr>
              <a:t>in the pres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ttps://mxweb3.media-x.com/home/ncval/demo/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49BD-E8A0-493E-A921-2D29B1CC01C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Our Agen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cRel-Observation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cket out the Do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0" name="Picture 4" descr="C:\Users\eedwards\AppData\Local\Microsoft\Windows\Temporary Internet Files\Content.IE5\PR30TM4L\MP900401668[1].jpg"/>
          <p:cNvPicPr/>
          <p:nvPr/>
        </p:nvPicPr>
        <p:blipFill>
          <a:blip r:embed="rId1"/>
          <a:stretch/>
        </p:blipFill>
        <p:spPr>
          <a:xfrm>
            <a:off x="5257800" y="2133720"/>
            <a:ext cx="3384720" cy="2820960"/>
          </a:xfrm>
          <a:prstGeom prst="rect">
            <a:avLst/>
          </a:prstGeom>
          <a:ln w="0">
            <a:noFill/>
          </a:ln>
        </p:spPr>
      </p:pic>
      <p:sp>
        <p:nvSpPr>
          <p:cNvPr id="16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0CC5-513F-4D38-BE16-E166F934275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Can We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actively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ue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ree to 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take it person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hon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y focused on established purpose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F618-8D10-437A-8589-19F5E2940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Principal/AP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nd understand the North Carolina Professional Teaching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e in training to understand and implement the Teacher Evalu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vise the Teacher Evaluation Process and ensure that all steps are conducted according to the approved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CDE3-5B28-4549-B25C-370DE6974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Principal/AP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533520" y="1371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teacher’s strengths and areas for improvement and make recommendations for improving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contents of the Teacher Summary Evaluation Report accurately reflect the teacher’s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nd supervise implementation of action plans as appropri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77F-0609-4149-B854-D119BE850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Let’s Look at the NC Teacher Evaluation Instru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mxweb3.media-x.com/home/ncval/demo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name: Principaldemo (any number 1-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sword: 1234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C42C-44C2-4A11-883A-FE206E8D9F62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eea"/>
                </a:solidFill>
                <a:latin typeface="Calibri"/>
              </a:rPr>
              <a:t>Having Difficul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ct:  Betty Pug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ac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ustomercare@mcrel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ttp://customercare.mcrel.org/helpconsole2010/nceesfaqs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1EAC-6A7A-46DB-8EDC-DB3D78C064CF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7" name="Picture 5" descr="questions.jpg"/>
          <p:cNvPicPr/>
          <p:nvPr/>
        </p:nvPicPr>
        <p:blipFill>
          <a:blip r:embed="rId1"/>
          <a:stretch/>
        </p:blipFill>
        <p:spPr>
          <a:xfrm>
            <a:off x="990720" y="685800"/>
            <a:ext cx="6949800" cy="5211720"/>
          </a:xfrm>
          <a:prstGeom prst="rect">
            <a:avLst/>
          </a:prstGeom>
          <a:ln w="0">
            <a:noFill/>
          </a:ln>
        </p:spPr>
      </p:pic>
      <p:sp>
        <p:nvSpPr>
          <p:cNvPr id="163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D151-77D2-476F-82F2-CA621DB5D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5:06:07Z</dcterms:created>
  <dc:creator>jgardner</dc:creator>
  <dc:description/>
  <dc:language>en-US</dc:language>
  <cp:lastModifiedBy>eedwards</cp:lastModifiedBy>
  <dcterms:modified xsi:type="dcterms:W3CDTF">2011-11-29T15:33:28Z</dcterms:modified>
  <cp:revision>132</cp:revision>
  <dc:subject/>
  <dc:title>RESA Implementation Sessions Day 2 Process</dc:title>
</cp:coreProperties>
</file>